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32A-BF9B-4AF9-83B1-512F357F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9B0-AC0B-44D0-8F67-48521C5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86B-44D9-4606-BFE9-F4BC342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E84-24A0-46D4-9294-1A8878D3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44C8-5D1C-433F-A83B-2E41F298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F4348-32F0-4388-9AD9-0A34E6C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0FBE5-B620-4086-984C-95A4E53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8A81-6874-48B3-931A-45917F0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DB7EC-CE04-49D3-AE51-1C5CF17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71B5A-2B7E-4F25-AB58-858AFE2F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0F37-4233-4519-8EF9-2561E54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EEE-FC9E-4AFB-820F-49F06AEA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CBD5F-C93C-4A0C-A181-FF9B13D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57FB8-70E7-4F7E-9018-1732F99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B04E6-56D1-4269-8B4B-23AA23AB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9022C-BAFA-492C-9AFD-61398CA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142DE-EE06-4627-B972-77201280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A81-C236-45DA-87C9-FB9EB32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619-65D9-4BCA-ACE4-71E916C1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F7B-2838-4B57-98DE-052D148F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3EC-BCC9-4F5F-BCCE-F03D365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18F-6A31-4138-B943-2D0A17F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24D-1332-4CAC-9E3B-7F5B852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DC3-7F96-4889-9C98-983A960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B5B-79D6-44EF-99A3-A624DEF3D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31E-86AE-4B8B-8E78-179DFD9BF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29000" y="3998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114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1148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934320" y="5715000"/>
            <a:ext cx="2209680" cy="533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Peggy Yo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463416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463416"/>
                </a:solidFill>
                <a:latin typeface="Arial"/>
              </a:rPr>
              <a:t> Gr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29528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aphy Term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lle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valley is low land between hills or mounta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es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24280" y="12952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forest is a large area of land where many trees g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untain is the highest kind of land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untain has a pea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349440" cy="365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00320" cy="2500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ill is land that rises above the land around i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ill has a rounded to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 island is land that has water on all sid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60680" y="2779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219320"/>
            <a:ext cx="376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esert is dry land with few pla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esert does not get much ra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3356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175248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227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1800" y="1676520"/>
            <a:ext cx="350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iver 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ng bod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water tha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s throug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95680" y="1447920"/>
            <a:ext cx="4038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ake is a body of water that has land on all sid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4190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cean is a very l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 of salty water that covers a large are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3733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lain is flat la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6:51:40Z</dcterms:created>
  <dc:creator>sjhs</dc:creator>
  <dc:description/>
  <dc:language>en-US</dc:language>
  <cp:lastModifiedBy>Peggy Young</cp:lastModifiedBy>
  <dcterms:modified xsi:type="dcterms:W3CDTF">2007-05-30T01:25:55Z</dcterms:modified>
  <cp:revision>4</cp:revision>
  <dc:subject/>
  <dc:title>Slide 1</dc:title>
</cp:coreProperties>
</file>